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E75-E0F1-469A-A729-4E9F6035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ACA-D62F-489E-8B75-99AB73B8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E80-01A3-4B81-958A-96C6FD6F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051-724F-467B-BAAB-0C99FCD3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2A37-14E2-43F6-B009-2DD9FEAF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F740-8314-4B7A-B1F8-0DA7ECA3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8960-2CD9-4CB7-B655-9B2381E8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3555-A95F-4AE3-820A-09F7D5BE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1BFF-C870-4170-B1CC-E52B996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8CC6-5EC4-4347-B2B4-0F1199DA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E89E-A94A-4877-8054-A87DE382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4EE-B3B2-4E2C-A132-EF3A70CE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EC2A-55DD-44A5-B2A2-DF28B493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576F-132D-4730-82F5-2741389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85EF-D63E-4464-A302-68DDDC2C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71DC-E822-4D91-BA56-EA2C892D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089B-1B88-42EF-B20C-AF5BB7DF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2A379-6CED-4D90-A668-FAD73152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5885-140A-4DB4-9D1A-C0EB142F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3386-03A8-4EA0-8226-49642423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95EE-FDB9-43D0-8D73-AF4986BC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519B-B3C7-4F20-AD3F-40155FF0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F23-CE13-48BE-9F76-7E1D2762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A9A2-8AB1-45E5-BDB7-F7715431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DFA21-6972-4FF4-8A18-D78DA822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ACFC-BFCD-4A3E-A13D-9AB2423F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D08E-CF5D-47F0-AE50-67D68F69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8FF4-5EFA-40D1-A181-CF533E1F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BAEC-5552-4F3B-AECF-9C408502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78D7-7F19-4133-8C6A-960DBBC4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E6D2-FBA6-422B-95D1-BE5B6ABE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38F2F-B331-44D8-B7D3-E5B10004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DE95E-A2D3-4339-BE76-E26AF947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EE6-ABF3-48C9-BAA8-F769A4A9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F1E7-72AC-4870-90BB-DF0CF372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5649-B017-4111-BCF1-8B9352C9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28A5F-E719-4B0A-A5A5-C45E6290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69ED5-5D8E-483D-89B8-A2BF08A6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3949-3269-4E8A-B030-D4A56CED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D0A66-8A82-4228-8B5F-5AA7794B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42921-5F9B-4C69-B6C0-BF3B0392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9DDD-CE79-4D4D-B063-13DDF883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03F41-6398-4ACD-BEBB-BED4D295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7CD-95E0-46D0-8CB6-C23885E7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D3A-95D1-47A1-8BE3-F1C43FAC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1D9-4087-410B-A916-F6F80C2E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5B1-F2EA-4158-B2DF-B018BFF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D1E-3340-4745-B25D-6585AC1E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D725-14B8-4603-8076-B7B6C242BD31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B778-A0E0-402F-A46A-CA79C6A5E0EE}" type="slidenum">
              <a:rPr b="0" lang="en-US" sz="1400" spc="-1" strike="noStrike">
                <a:solidFill>
                  <a:srgbClr val="7f7f7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6C55-7E2F-448B-8E1E-676EBE509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A0EC-AB81-48F2-87B3-7FA206EE8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cc"/>
                </a:solidFill>
                <a:latin typeface="Tahoma"/>
              </a:rPr>
              <a:t>Descubre tus habilidades plurilingües e interculturales</a:t>
            </a:r>
            <a:endParaRPr b="0" lang="en-US" sz="3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 rot="360000">
            <a:off x="3060720" y="4822200"/>
            <a:ext cx="533088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100"/>
                </a:solidFill>
                <a:latin typeface="Tahoma"/>
              </a:rPr>
              <a:t>EOI de Salama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762360" cy="3019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1268280"/>
            <a:ext cx="718920" cy="432000"/>
          </a:xfrm>
          <a:prstGeom prst="wedgeEllipseCallout">
            <a:avLst>
              <a:gd name="adj1" fmla="val -34328"/>
              <a:gd name="adj2" fmla="val 665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26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492280"/>
            <a:ext cx="649440" cy="647640"/>
          </a:xfrm>
          <a:prstGeom prst="wedgeEllipseCallout">
            <a:avLst>
              <a:gd name="adj1" fmla="val -53666"/>
              <a:gd name="adj2" fmla="val 5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637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ffff"/>
                </a:solidFill>
                <a:latin typeface="Tahoma"/>
              </a:rPr>
              <a:t>16. </a:t>
            </a:r>
            <a:r>
              <a:rPr b="1" lang="es-ES_tradnl" sz="4000" spc="-1" strike="noStrike">
                <a:solidFill>
                  <a:srgbClr val="ff33cc"/>
                </a:solidFill>
                <a:latin typeface="Tahoma"/>
              </a:rPr>
              <a:t>ESTRATEGIAS  DE  COMUNICACIÓN DE HAN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Para comunicarse con ellos les habla en una lengua  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Cuando se da cuenta de que no entienden algo  ---------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Otra forma de decir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 piace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(Martín a su vez da un sinónimo de </a:t>
            </a: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bell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 ------------------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tra forma de decir</a:t>
            </a:r>
            <a:r>
              <a:rPr b="0" i="1" lang="es-ES" sz="1600" spc="-1" strike="noStrike">
                <a:solidFill>
                  <a:srgbClr val="ffffff"/>
                </a:solidFill>
                <a:latin typeface="Tahoma"/>
              </a:rPr>
              <a:t> ci vediamo dopo (despedirse)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: 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- También acompaña a menudo sus palabras con ---------------------------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7.   ¿Cómo es desde el punto de vista lingüístico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ono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ult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ilingü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8- ¿Qué lenguas se hablan en Suiz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067280" y="4149720"/>
            <a:ext cx="5076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 ¿en qué lengua habla la camarer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l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. ¿qué le pasa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preocup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á enfad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no le gustan los extranjer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s posible  entender lo que le pasa aunque no se conozca la lengua en la que habla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4. ¿qué les dic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ya es muy tarde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ue son las 8.00 y es muy pronto para desayun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5. ¿qué estrategia usa para hacerse entende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tiliza una lengua que ellos entien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6. ¿por qué a un español le cuesta tanto comprender el enfado de la camarer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las camareras no se enfadan nun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s de mala educación enfada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en España es normal desayunar a esa ho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 La camarera les ofrec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con lech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 o 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 Finalmente Martín y su amigo entienden perfectamente que tienen que elegir entre té o café ¿por qué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 los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que son palabras muy próximas a las del españ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 Martín y su amigo elige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f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st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0. La camarera entiende porqu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 lo dicen en alemá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utilizan ges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on palabras interna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9577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cc"/>
                </a:solidFill>
                <a:latin typeface="Corbel"/>
              </a:rPr>
              <a:t>IIIComportarse como locutores intercultural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99640" y="1989000"/>
            <a:ext cx="748836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Los grupos serán los mismos que en las otras actividades: los amarillos serán los </a:t>
            </a:r>
            <a:r>
              <a:rPr b="0" lang="es-ES" sz="2400" spc="-1" strike="noStrike">
                <a:solidFill>
                  <a:srgbClr val="ffff00"/>
                </a:solidFill>
                <a:latin typeface="Corbel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azules </a:t>
            </a:r>
            <a:r>
              <a:rPr b="0" lang="es-ES" sz="2800" spc="-1" strike="noStrike">
                <a:solidFill>
                  <a:srgbClr val="00ccff"/>
                </a:solidFill>
                <a:latin typeface="Corbel"/>
              </a:rPr>
              <a:t>los Ilandes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, los rojos y verdes  </a:t>
            </a:r>
            <a:r>
              <a:rPr b="0" lang="es-ES" sz="2800" spc="-1" strike="noStrike">
                <a:solidFill>
                  <a:srgbClr val="ff0000"/>
                </a:solidFill>
                <a:latin typeface="Corbel"/>
              </a:rPr>
              <a:t>observadores </a:t>
            </a:r>
            <a:r>
              <a:rPr b="0" lang="es-ES" sz="2800" spc="-1" strike="noStrike">
                <a:solidFill>
                  <a:srgbClr val="33cc33"/>
                </a:solidFill>
                <a:latin typeface="Corbel"/>
              </a:rPr>
              <a:t>internacionales</a:t>
            </a:r>
            <a:r>
              <a:rPr b="0" lang="es-ES" sz="2800" spc="-1" strike="noStrike">
                <a:solidFill>
                  <a:srgbClr val="ffffff"/>
                </a:solidFill>
                <a:latin typeface="Corbel"/>
              </a:rPr>
              <a:t>. Tendrán muy claras sus instrucciones y ensayarán durante 5 minut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843280" cy="248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025800" cy="2603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302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33cc"/>
                </a:solidFill>
                <a:latin typeface="Tahoma"/>
              </a:rPr>
              <a:t>Cumbre internacional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va a producir una negociación entre 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Los </a:t>
            </a: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seréis los amarillos y los </a:t>
            </a:r>
            <a:r>
              <a:rPr b="0" lang="es-ES" sz="32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los azules. Los rojos y verdes seréis </a:t>
            </a:r>
            <a:r>
              <a:rPr b="0" lang="es-ES" sz="3200" spc="-1" strike="noStrike">
                <a:solidFill>
                  <a:srgbClr val="009900"/>
                </a:solidFill>
                <a:latin typeface="Tahoma"/>
              </a:rPr>
              <a:t>observador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tes de empezar: leed bien, comprended y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sayad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ayudados por vuestro profes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 rot="579600">
            <a:off x="2398320" y="979560"/>
            <a:ext cx="338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y </a:t>
            </a: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Ulandes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para negoc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tenéis que acompañaros de gestos y mímica para que los otros os comprend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hay que seguir estos pa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1. salud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2. explicar qué queréis y qué tené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3. dar las gra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4. despedi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durante la negoci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i alguien hace algo extraño, irritante, irrespetuoso, ofensivo o incomprensible para vosotros debéis interrumpir la negoc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tenéis que observar con atención cómo se comunican los otros y aprender lo que podáis de su lengua y sus costumb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uando la negociación se rompa tendréis que intentar averiguar qué ha fallado para no repetir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ando consigáis lo necesario habréis acabado, aunque si no habéis aprendido nada sobre las culturas de los otros no habrá servido de na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BSERVADOR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Tahoma"/>
              </a:rPr>
              <a:t>INTERNACION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Los roj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bservaréis a los  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u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2800" spc="-1" strike="noStrike">
                <a:solidFill>
                  <a:srgbClr val="33cc33"/>
                </a:solidFill>
                <a:latin typeface="Tahoma"/>
              </a:rPr>
              <a:t>los verd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a los </a:t>
            </a:r>
            <a:r>
              <a:rPr b="0" lang="es-ES" sz="2800" spc="-1" strike="noStrike">
                <a:solidFill>
                  <a:srgbClr val="00ccff"/>
                </a:solidFill>
                <a:latin typeface="Tahoma"/>
              </a:rPr>
              <a:t>ilandes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ijaos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comport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forma de hab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s mov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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 manera de relacionars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réis sus reacciones y analizaréis sus costumbres, sus normas, las razones  de los conflictos, las causas de los equívocos  y cómo se resuelv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cidiréis quiénes son buenos locutores interculturales  y expondréis vuestras conclusiones al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DESPUÉS DE LA NEGOCI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º VAMOS A ESCUCHAR LA VERSIÓN DE LO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BSERV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ADOR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º LOS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LANDES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ULANDESES</a:t>
            </a:r>
            <a:r>
              <a:rPr b="0" i="1" lang="en-US" sz="32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ÉIS EXPLICAR QUÉ HABÉIS PENSADO LOS UNOS DE LOS OTROS Y CÓMO OS HABÉIS SENTIDO AL RELACIONAROS. TAMBIÉN TENDRÉIS QUE EXPLICAR POR QUÉ HABÉIS ACTUADO COMO LO HABÉIS HECH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71640" y="4119480"/>
            <a:ext cx="3504960" cy="2103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476360" y="765000"/>
            <a:ext cx="2370240" cy="333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003640" y="7650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5580000" y="3716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276720" y="2421000"/>
            <a:ext cx="24908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36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18ce"/>
                </a:solidFill>
                <a:latin typeface="Tahoma"/>
              </a:rPr>
              <a:t>I- APRENDER LENGUAS A PARTIR DE OTRAS LENGUAS: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PRENDER</a:t>
            </a: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/APRENDER OTRAS LENGUAS ES </a:t>
            </a:r>
            <a:br>
              <a:rPr sz="2800"/>
            </a:br>
            <a:r>
              <a:rPr b="1" lang="en-US" sz="2800" spc="-1" strike="noStrike">
                <a:solidFill>
                  <a:srgbClr val="ff33cc"/>
                </a:solidFill>
                <a:latin typeface="Corbel"/>
              </a:rPr>
              <a:t>    FÁCIL SI HABLAS ESPAÑOL E INGLÉS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Habéis recibido una pegatina con un color. Dirigíos, por favor, hacia la mesa de vuestro color en la que os estará esperando vuestro profesor con una pegatina como la vuest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El coordinador os saludará y hará una pequeña intro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Vuestro profesor os dará las instrucciones (1º escribid vuestro nombre en la parte de abajo. 2º entre todos completar el puzzle de frases en distintas lengu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Una vez concluida esta tarea y completada y corregida la tabla, los profesores enseñaran a pronunciar las frases en las distintas lenguas. Después,  los profesores harán algunas preguntas y en gran grupo los alumnos responderán en al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Conclusión: se reflexionará sobre las estrategias de comprensión y de aprendizaje, los indicios, el proceso que han seguido en sus deduccione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222120"/>
          <a:ext cx="9144000" cy="6413760"/>
        </p:xfrm>
        <a:graphic>
          <a:graphicData uri="http://schemas.openxmlformats.org/drawingml/2006/table">
            <a:tbl>
              <a:tblPr/>
              <a:tblGrid>
                <a:gridCol w="1763640"/>
                <a:gridCol w="1584360"/>
                <a:gridCol w="1944720"/>
                <a:gridCol w="2073240"/>
                <a:gridCol w="177804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spañ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itali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franç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3366ff"/>
                          </a:solidFill>
                          <a:latin typeface="Tahoma"/>
                          <a:ea typeface="MS Mincho"/>
                        </a:rPr>
                        <a:t>Deuts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ómo te  llam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e ti chiam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mment tu t’appell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’s your na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hei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ＭＳ Ｐゴシック"/>
                        </a:rPr>
                        <a:t>ß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 llamo Ma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i chiamo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m’appell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y name is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heiße M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e dónde  er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i dove se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’où tu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are you fro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her komm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españ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spagn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espagn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 Span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Spanier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Cuántos años tien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anti anni h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 âge as-t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How old are yo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alt bi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eng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Ne ho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ai vingt-trois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am 23 years 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23 Jahre a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Dónde v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ove abit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Où tu habit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ere do you liv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o wohn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Vivo en Pa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Abito a Pari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habite à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 liv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wohne in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ac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lavoro fa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fai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do you d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mach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y period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giorna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e suis journali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a journa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bin Journali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estudia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osa studi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’est-ce que tu étud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are you study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as studierst du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tudio filolog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Faccio Lett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J’étudi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’m studying Huma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ch studiere Phil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¿Qué hora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Che ore son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Quelle heure est-il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hat time is i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Wie spät ist 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 las ci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Sono le cin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l est cinq he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It’s five o’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Es ist fünf U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Grazie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Mer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Thank y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an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Pr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De ri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You’re wel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ahoma"/>
                          <a:ea typeface="MS Mincho"/>
                        </a:rPr>
                        <a:t>Bit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II- </a:t>
            </a:r>
            <a:r>
              <a:rPr b="1" lang="en-US" sz="2400" spc="-1" strike="noStrike">
                <a:solidFill>
                  <a:srgbClr val="ff33cc"/>
                </a:solidFill>
                <a:latin typeface="Corbel"/>
              </a:rPr>
              <a:t>COMUNICARSE  ES FÁCIL AUNQUE SE HABLEN LENGUAS DISTINTAS: ESTRATEGIAS PARA COMUNICARS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Se trata de comprender algunos minutos de la película « Un franco, 14 pesetas » que aborda la emigración española en Suiza en los años 60 y que presenta el multilingüismo en el contexto helvético.</a:t>
            </a:r>
            <a:r>
              <a:rPr b="0" lang="es-ES" sz="2300" spc="-1" strike="noStrike">
                <a:solidFill>
                  <a:srgbClr val="ffffff"/>
                </a:solidFill>
                <a:latin typeface="Corbel"/>
              </a:rPr>
              <a:t> Estos momentos ilustran muy  bien intercambios plurilingüe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Es una actividad de comprensión audiovisual y escrita plurilingüe. Los estudiantes deberán acceder a la comprensión partiendo de sus conocimientos de otras lenguas y utilizando estrategias de comprensión sobre las que serán capaces de reflexionar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Corbel"/>
              </a:rPr>
              <a:t>También  se pone el énfasis en la necesidad de conocer algunas particularidades de la propia cultura en relación a algunas costumbres de otras culturas para evitar malentendido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2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ahoma"/>
              </a:rPr>
              <a:t>La llegada a Sui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¿qué lenguas reconoce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os policías en la fronter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l señor de la fáb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los cartel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 el señor de la fábrica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 con otro huésped con el que se cruzan en las escalera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nna con 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Martín y su ami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. Martín y Marcos sólo hab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em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pañ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 ¿por qué entienden Martín y su amigo lo que les dicen en la frontera (en francés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 el contexto y los g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entienden el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rque hablan franc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075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4. Los españoles se asombran de muchas cosas. De esto puedes deducir qu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5. ¿por qué entiende el señor suizo de la fábrica lo que le dice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porque entiende el españ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porque algunas palabras españolas se parecen a las de su lengu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6. ¿qué dos palabras recono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-  que  Martín y Marcos son  …………………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b-   que Martín y Marcos  son  mecánicos ……………………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7. Martín y su amigo creen haber entendido una palabra alemana   ¿cómo la traducen? ¿dónde piensan que están los trabajador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8. ¿cómo se hace entender el suiz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9. El señor suizo lleva a los españoles a un edificio y  los deja a cargo de Hanna, diciéndo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que son de …………………………  ( nacionalida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y que vienen ………………………  (ocupació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26920" y="836640"/>
          <a:ext cx="7705800" cy="1843200"/>
        </p:xfrm>
        <a:graphic>
          <a:graphicData uri="http://schemas.openxmlformats.org/drawingml/2006/table">
            <a:tbl>
              <a:tblPr/>
              <a:tblGrid>
                <a:gridCol w="4249800"/>
                <a:gridCol w="345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España en 1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Suiza en 1960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 no/sí se tiran al su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no /sí se besan en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no /sí  va arm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 no /sí hay mucha g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algunos cuartos de baño  no/sí hay ……………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s papeles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 parejas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gente ....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a calle ........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 los cuartos de baño………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5ffff"/>
                </a:solidFill>
                <a:latin typeface="Tahoma"/>
              </a:rPr>
              <a:t>10. Vamos  a deducir el significado del cartel</a:t>
            </a:r>
            <a:r>
              <a:rPr b="0" lang="es-ES_tradnl" sz="1400" spc="-1" strike="noStrike">
                <a:solidFill>
                  <a:srgbClr val="e5ffff"/>
                </a:solidFill>
                <a:latin typeface="Tahoma"/>
              </a:rPr>
              <a:t>: podemos entender su significado a partir del inglés y teniendo en cuenta el contexto (los españoles deducen por el aspecto del lugar que es una pensión)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2095560"/>
            <a:ext cx="8280360" cy="428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457200" y="692280"/>
          <a:ext cx="8229600" cy="144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Alem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españ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               </a:t>
                      </a: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Lucida Handwriting"/>
                          <a:ea typeface="Times New Roman"/>
                        </a:rPr>
                        <a:t>Gasth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1. ¿cuántas lenguas habla Hann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taliano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rancés y alemá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2. ¿ en cuántas  se  entiend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franc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taliano y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emán, inglés e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3. ¿por qué Hanna les habla en italian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sabe que hablan itali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su lengua  ma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rque es consciente de que es la lengua que conoce más próxima al españ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4. ¿qué palabras dice Hanna que parecen españolas y que podemos considerar” falsos amigos”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…=habit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arri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…………………………= piso/plan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5. ¿Y qué entienden ello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-  Que a Hanna le …………………………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7:33:58Z</dcterms:created>
  <dc:creator>VEGA</dc:creator>
  <dc:description/>
  <dc:language>en-US</dc:language>
  <cp:lastModifiedBy>DEPARTAMENTO</cp:lastModifiedBy>
  <dcterms:modified xsi:type="dcterms:W3CDTF">2011-12-07T14:24:03Z</dcterms:modified>
  <cp:revision>33</cp:revision>
  <dc:subject/>
  <dc:title>Diapositiva 1</dc:title>
</cp:coreProperties>
</file>