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58F-DCCE-49EF-92C9-A78E5DFF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2F3-B13D-4680-BA87-65E4A6E2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226-F1CF-4700-A688-7D2D220A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084-8DC6-4B87-B840-06CCAD62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EBF7-8B45-4CC7-A393-004F1FFB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82E9-EF37-42A3-B8EA-DFFADAD6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A883-88CB-46D1-B6D0-537B2AFE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4D5E-7E7D-4EB9-AFBF-BFA21E0A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C46B-5AD2-4874-825C-C052047D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DE2B-4FE7-4128-B2E7-023BD7AE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1479-A436-427E-89FF-77E03AAF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D43-85EE-4527-9C5A-A882F164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7FCC-9FC1-4898-8711-4C7B0556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96F2-EB13-4F02-B73D-5DAD4CE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CFDD-695A-4AFA-BE8F-77B02248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3E4E-A9E4-416B-96E5-AD51526F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2C68-E102-4296-AF0D-DCA2B7C2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A13C-1FAD-4412-929F-87422967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E19F-24C5-4318-AD17-C100AC44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7D53-B7BF-4EC0-98C9-2506E567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C5A1-14D5-4698-849D-5DAAB705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C5C3-339A-4BF6-8804-B01730EB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708-6736-4A86-82D0-D98B5DB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0FA3-FAE9-4348-ABD2-363A5606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B788-E39C-453A-8039-27E9929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6814-3829-4504-84AF-16EA036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BC96-EF11-4038-BB2B-74A6F882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6547-739D-432C-9DB0-D380C8D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95D1-8D7B-475E-8E81-DCD22E65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3FDE-B6C8-4487-B93B-3B8F1A71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E830C-2F0B-4140-A371-DA0F10F5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7FAF-AA9B-47E4-865E-79B780E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C56DE-2467-4EF0-B72C-4FAB399E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269-83DC-473C-8EE9-4A939AD1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0FBC-3C08-4FA1-8C25-91907EFD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ABE4-EB20-4DE9-8032-E9C400D8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9F47-5264-4645-951E-6F198A8F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71E8-433F-4097-A2EC-8934BBD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D3FF-013B-4FF4-BF4C-1BA9741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00EB-0176-46B5-96F0-1B1C5B70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97BE-7188-4EB8-9230-EE60E5BF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CD72-75C3-47B1-BB61-353ED709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9770-A0CF-4FA7-B86C-438BFB86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169-071F-49CF-92FE-CFCFB756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3B4-3C49-4E13-ADE7-CB61FF8E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53C-0B5B-40F8-94D0-B3A5A11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ECA-2892-4991-997B-CDF813D2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850-C0BE-4F60-A370-F0F573B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2451-A715-47FD-A576-CB9E301A955E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4204-F3FA-404A-A107-67206A1B52D2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B0D0-4F16-4CB6-B050-E0B8F01C2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78B7-C692-4267-9233-9622DD9A3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cc"/>
                </a:solidFill>
                <a:latin typeface="Tahoma"/>
              </a:rPr>
              <a:t>Descubre tus habilidades plurilingües e interculturales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 rot="360000">
            <a:off x="3060720" y="4822200"/>
            <a:ext cx="53308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100"/>
                </a:solidFill>
                <a:latin typeface="Tahoma"/>
              </a:rPr>
              <a:t>EOI de Salama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62360" cy="3019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1268280"/>
            <a:ext cx="718920" cy="432000"/>
          </a:xfrm>
          <a:prstGeom prst="wedgeEllipseCallout">
            <a:avLst>
              <a:gd name="adj1" fmla="val -34328"/>
              <a:gd name="adj2" fmla="val 665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26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492280"/>
            <a:ext cx="649440" cy="647640"/>
          </a:xfrm>
          <a:prstGeom prst="wedgeEllipseCallout">
            <a:avLst>
              <a:gd name="adj1" fmla="val -53666"/>
              <a:gd name="adj2" fmla="val 5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37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ffff"/>
                </a:solidFill>
                <a:latin typeface="Tahoma"/>
              </a:rPr>
              <a:t>16. </a:t>
            </a:r>
            <a:r>
              <a:rPr b="1" lang="es-ES_tradnl" sz="4000" spc="-1" strike="noStrike">
                <a:solidFill>
                  <a:srgbClr val="ff33cc"/>
                </a:solidFill>
                <a:latin typeface="Tahoma"/>
              </a:rPr>
              <a:t>ESTRATEGIAS  DE  COMUNICACIÓN DE HAN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Para comunicarse con ellos les habla en una lengua  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Cuando se da cuenta de que no entienden algo  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Otra forma de decir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 piace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(Martín a su vez da un sinónimo de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bell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tra forma de decir</a:t>
            </a: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 ci vediamo dopo (despedirse)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: 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- También acompaña a menudo sus palabras con 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7.   ¿Cómo es desde el punto de vista lingüístico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ono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ult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8- ¿Qué lenguas se hablan en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 ¿en qué lengua habla la camarer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 ¿qué le pas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preocup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enfad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 le gustan los extranje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s posible  entender lo que le pasa aunque no se conozca la lengua en la que habla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 ¿qué les d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ya es muy tarde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es muy pronto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 ¿qué estrategia usa para hacerse entende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tiliza una lengua que ellos entien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6. ¿por qué a un español le cuesta tanto comprender el enfado de la camarer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las camareras no se enfadan nun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s de mala educación enfada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es normal desayunar a esa ho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 La camarera les ofrec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con lech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o 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 Finalmente Martín y su amigo entienden perfectamente que tienen que elegir entre té o café ¿por qué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 los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son palabras muy próximas a las del españ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 Martín y su amigo elige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0. La camarera entiende porqu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 lo dicen en alem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utilizan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on palabras interna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57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cc"/>
                </a:solidFill>
                <a:latin typeface="Corbel"/>
              </a:rPr>
              <a:t>IIIComportarse como locutores intercultural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99640" y="1989000"/>
            <a:ext cx="748836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Los grupos serán los mismos que en las otras actividades: los amarillos serán los </a:t>
            </a:r>
            <a:r>
              <a:rPr b="0" lang="es-ES" sz="2400" spc="-1" strike="noStrike">
                <a:solidFill>
                  <a:srgbClr val="ffff00"/>
                </a:solidFill>
                <a:latin typeface="Corbel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azules </a:t>
            </a:r>
            <a:r>
              <a:rPr b="0" lang="es-ES" sz="2800" spc="-1" strike="noStrike">
                <a:solidFill>
                  <a:srgbClr val="00ccff"/>
                </a:solidFill>
                <a:latin typeface="Corbel"/>
              </a:rPr>
              <a:t>los I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rojos y verdes  </a:t>
            </a:r>
            <a:r>
              <a:rPr b="0" lang="es-ES" sz="2800" spc="-1" strike="noStrike">
                <a:solidFill>
                  <a:srgbClr val="ff0000"/>
                </a:solidFill>
                <a:latin typeface="Corbel"/>
              </a:rPr>
              <a:t>observadores </a:t>
            </a:r>
            <a:r>
              <a:rPr b="0" lang="es-ES" sz="2800" spc="-1" strike="noStrike">
                <a:solidFill>
                  <a:srgbClr val="33cc33"/>
                </a:solidFill>
                <a:latin typeface="Corbel"/>
              </a:rPr>
              <a:t>internacional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. Tendrán muy claras sus instrucciones y ensayarán durante 5 minu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843280" cy="248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025800" cy="2603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302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Cumbre internacional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va a producir una negociación entre 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Los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réis los amarillos y los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los azules. Los rojos y verdes seréis 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observado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tes de empezar: leed bien, comprended y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sayad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yudados por vuestro profe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 rot="579600">
            <a:off x="2398320" y="97956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y 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Ulandes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para negoc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tenéis que acompañaros de gestos y mímica para que los otros os comprend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hay que seguir estos pa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1. salud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2. explicar qué queréis y qué tené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3. dar las gra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4. desped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durante la negoci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i alguien hace algo extraño, irritante, irrespetuoso, ofensivo o incomprensible para vosotros debéis interrumpir la negoc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tenéis que observar con atención cómo se comunican los otros y aprender lo que podáis de su lengua y sus costumb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uando la negociación se rompa tendréis que intentar averiguar qué ha fallado para no repeti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ndo consigáis lo necesario habréis acabado, aunque si no habéis aprendido nada sobre las culturas de los otros no habrá servido de n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BSERVADOR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Tahoma"/>
              </a:rPr>
              <a:t>INTERNACION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Los roj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bservaréis a los  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2800" spc="-1" strike="noStrike">
                <a:solidFill>
                  <a:srgbClr val="33cc33"/>
                </a:solidFill>
                <a:latin typeface="Tahoma"/>
              </a:rPr>
              <a:t>los verd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a los </a:t>
            </a:r>
            <a:r>
              <a:rPr b="0" lang="es-ES" sz="28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ijaos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compor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forma de hab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s mov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manera de relacionars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réis sus reacciones y analizaréis sus costumbres, sus normas, las razones  de los conflictos, las causas de los equívocos  y cómo se resuel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cidiréis quiénes son buenos locutores interculturales  y expondréis vuestras conclusiones al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DESPUÉS DE LA NEGOCI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º VAMOS A ESCUCHAR LA VERSIÓN DE LO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BSERV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ADOR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º LOS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LANDES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ULANDESES</a:t>
            </a:r>
            <a:r>
              <a:rPr b="0" i="1" lang="en-US" sz="32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ÉIS EXPLICAR QUÉ HABÉIS PENSADO LOS UNOS DE LOS OTROS Y CÓMO OS HABÉIS SENTIDO AL RELACIONAROS. TAMBIÉN TENDRÉIS QUE EXPLICAR POR QUÉ HABÉIS ACTUADO COMO LO HABÉIS HECH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71640" y="4119480"/>
            <a:ext cx="3504960" cy="210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476360" y="765000"/>
            <a:ext cx="2370240" cy="333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580000" y="3716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276720" y="2421000"/>
            <a:ext cx="24908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36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18ce"/>
                </a:solidFill>
                <a:latin typeface="Tahoma"/>
              </a:rPr>
              <a:t>I- APRENDER LENGUAS A PARTIR DE OTRAS LENGUAS: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PRENDER</a:t>
            </a: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/APRENDER OTRAS LENGUAS ES </a:t>
            </a:r>
            <a:br>
              <a:rPr sz="2800"/>
            </a:b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   FÁCIL SI HABLAS ESPAÑOL E INGLÉS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Habéis recibido una pegatina con un color. Dirigíos, por favor, hacia la mesa de vuestro color en la que os estará esperando vuestro profesor con una pegatina como la vuest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El coordinador os saludará y hará una pequeña intro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Vuestro profesor os dará las instrucciones (1º escribid vuestro nombre en la parte de abajo. 2º entre todos completar el puzzle de frases en distintas lengu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Una vez concluida esta tarea y completada y corregida la tabla, los profesores enseñaran a pronunciar las frases en las distintas lenguas. Después,  los profesores harán algunas preguntas y en gran grupo los alumnos responderán en al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Conclusión: se reflexionará sobre las estrategias de comprensión y de aprendizaje, los indicios, el proceso que han seguido en sus deduccione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222120"/>
          <a:ext cx="9144000" cy="6413760"/>
        </p:xfrm>
        <a:graphic>
          <a:graphicData uri="http://schemas.openxmlformats.org/drawingml/2006/table">
            <a:tbl>
              <a:tblPr/>
              <a:tblGrid>
                <a:gridCol w="1763640"/>
                <a:gridCol w="1584360"/>
                <a:gridCol w="1944720"/>
                <a:gridCol w="2073240"/>
                <a:gridCol w="177804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spañ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ital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franç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Deuts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ómo te  llam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e ti chiam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ment tu t’appell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’s your na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he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ＭＳ Ｐゴシック"/>
                        </a:rPr>
                        <a:t>ß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 llamo Ma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i chiamo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m’appell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y name is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heiß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e dónde  er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i dove se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’où tu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are you fr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her komm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españ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spagn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espagn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 Span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Spanie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uántos años tien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anti anni h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 âge as-t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How old are yo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alt bi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eng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Ne h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ai vingt-trois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23 years 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23 Jahre 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ónde v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ove abit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Où tu habi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do you li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 wohn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Vivo en Pa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Abito a Pari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habite à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liv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wohn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ac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lavoro f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fa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do you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mach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period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gior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journali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a journa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Journali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estudi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sa stud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étud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are you study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studier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tudio filolog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Faccio Lett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étudi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studying Huma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studier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ora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ore so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le heure est-i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time is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spät ist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 las ci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le cin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l est cinq he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t’s five o’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 ist fünf U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zi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r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hank y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an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Pr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r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You’re wel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Bi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I-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UNICARSE  ES FÁCIL AUNQUE SE HABLEN LENGUAS DISTINTAS: ESTRATEGIAS PARA COMUNICARS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Se trata de comprender algunos minutos de la película « Un franco, 14 pesetas » que aborda la emigración española en Suiza en los años 60 y que presenta el multilingüismo en el contexto helvético.</a:t>
            </a:r>
            <a:r>
              <a:rPr b="0" lang="es-ES" sz="2300" spc="-1" strike="noStrike">
                <a:solidFill>
                  <a:srgbClr val="ffffff"/>
                </a:solidFill>
                <a:latin typeface="Corbel"/>
              </a:rPr>
              <a:t> Estos momentos ilustran muy  bien intercambios plurilingüe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Es una actividad de comprensión audiovisual y escrita plurilingüe. Los estudiantes deberán acceder a la comprensión partiendo de sus conocimientos de otras lenguas y utilizando estrategias de comprensión sobre las que serán capaces de reflexion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También  se pone el énfasis en la necesidad de conocer algunas particularidades de la propia cultura en relación a algunas costumbres de otras culturas para evitar malentendido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2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La llegada a Sui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¿qué lenguas reconoc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policías en la fronter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l señor de la fáb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los cartel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 el señor de la fábrica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 con otro huésped con el que se cruzan en las escaler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. Martín y Marcos sólo hab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ntienden Martín y su amigo lo que les dicen en la frontera (en francés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 el contexto y 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entienden el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hablan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075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4. Los españoles se asombran de muchas cosas. De esto puedes deducir qu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5. ¿por qué entiende el señor suizo de la fábrica lo que le dice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porque entiende el españ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porque algunas palabras españolas se parecen a las de su lengu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6. ¿qué dos palabras recono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 que  Martín y Marcos son  …………………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  que Martín y Marcos  son  mecánicos ……………………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7. Martín y su amigo creen haber entendido una palabra alemana   ¿cómo la traducen? ¿dónde piensan que están los trabajador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8. ¿cómo se hace entender el suiz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9. El señor suizo lleva a los españoles a un edificio y  los deja a cargo de Hanna, diciéndo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que son de …………………………  ( nacionalida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y que vienen ………………………  (ocupació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836640"/>
          <a:ext cx="7705800" cy="1843200"/>
        </p:xfrm>
        <a:graphic>
          <a:graphicData uri="http://schemas.openxmlformats.org/drawingml/2006/table">
            <a:tbl>
              <a:tblPr/>
              <a:tblGrid>
                <a:gridCol w="4249800"/>
                <a:gridCol w="34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España en 1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Suiza en 1960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 no/sí se tiran al su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no /sí se besan en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no /sí  va arm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 no /sí hay mucha 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algunos cuartos de baño  no/sí hay ……………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os cuartos de baño………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ffff"/>
                </a:solidFill>
                <a:latin typeface="Tahoma"/>
              </a:rPr>
              <a:t>10. Vamos  a deducir el significado del cartel</a:t>
            </a:r>
            <a:r>
              <a:rPr b="0" lang="es-ES_tradnl" sz="1400" spc="-1" strike="noStrike">
                <a:solidFill>
                  <a:srgbClr val="e5ffff"/>
                </a:solidFill>
                <a:latin typeface="Tahoma"/>
              </a:rPr>
              <a:t>: podemos entender su significado a partir del inglés y teniendo en cuenta el contexto (los españoles deducen por el aspecto del lugar que es una pensión)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2095560"/>
            <a:ext cx="8280360" cy="42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57200" y="692280"/>
          <a:ext cx="8229600" cy="144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Alem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españ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</a:t>
                      </a: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Gast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1. ¿cuántas lenguas habla Hann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taliano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rancés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2. ¿ en cuántas  se  entiend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nglés e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3. ¿por qué Hanna les habla en italian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sabe que hablan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su lengua  ma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consciente de que es la lengua que conoce más próxima al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4. ¿qué palabras dice Hanna que parecen españolas y que podemos considerar” falsos amigos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…=habit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arri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piso/plan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5. ¿Y qué entienden ello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 Que a Hanna le ………………………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7:33:58Z</dcterms:created>
  <dc:creator>VEGA</dc:creator>
  <dc:description/>
  <dc:language>en-US</dc:language>
  <cp:lastModifiedBy>DEPARTAMENTO</cp:lastModifiedBy>
  <dcterms:modified xsi:type="dcterms:W3CDTF">2011-12-07T14:24:03Z</dcterms:modified>
  <cp:revision>33</cp:revision>
  <dc:subject/>
  <dc:title>Diapositiva 1</dc:title>
</cp:coreProperties>
</file>