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FD1-3918-41FB-BAF6-7887384F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F3D-8BC7-45FB-A7E0-D61FB66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E59-1918-4F93-86D1-F2C4F3CD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229-9E22-46CC-8C7D-A8174EDC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A53E-DFFA-4C47-AEC1-06CAFE0A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0DEC-DFC2-4A15-A32A-51C16AD0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37C-DA87-4C64-A923-5257F0E0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1685-E52A-4386-AC9D-AC90251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FB8B-6F70-4F6E-B490-5632C542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0179-7F69-468A-9913-ECE3CA9A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1FD-580B-40B7-9C65-E4801AA7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8FD-BC8B-4AB8-BCA2-D0ECE3DB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ED33-AB52-41CC-B45E-817F5DB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DF1C-F3FA-40B8-9704-6F09A3C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CEAD-4E71-4456-9338-729810DC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FBB-8AE4-43FB-A772-467960D6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6C61-CCE4-4FC8-8FCA-97F3FB30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D8BC-9AA5-47B0-BF33-7EFCD55B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FAFF-3019-4786-B95D-48ED7706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B8F3-228E-4CE7-8552-E5FD6F3D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445A-B803-447B-908B-F7BA9963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FB40-AF52-440E-98C3-0CD3A2F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DCC-B375-4D93-A049-B90F772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F9EE-D64B-4718-9C29-1C67010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5861-6CE3-49E3-8B5B-7D5D1B6A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D44C-95EC-40E0-848F-7520089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8FAC-0798-4633-AFC4-598415D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09EB-58FE-4A1D-8829-56A7ED6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17CA-7604-4920-9FA5-391FB11B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332D-E6FA-48E0-BCAB-E036CA6C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03F9-ABED-4B03-A7D4-5F29E731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6B2B-FD13-4AFC-BE1E-1A09A29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3CAC-0849-4135-B361-5756F0D9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0DA-63B1-4BD5-95BC-713CAE2F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C20C-B27F-42C1-986D-3DB4C03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9E5E-2BC9-44D0-A1AA-E225159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2C88-CADE-488E-A887-AD4B0A54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0367-36AE-4DE1-AA72-EAA09AE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08A4-C9F7-45F4-A8EF-76960B3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54BC-FFD1-4A72-AE42-DFAA35C1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FD35B-571D-410B-92F6-EC12BEB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E083-E745-41BF-B8AA-803A930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9F17-C389-4719-A39A-14FE6AA7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A8F-F9B1-40F1-928D-BA320BE7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8E7-C7D5-4BF8-B82E-8A8BAE86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30D-8F10-42DC-93E7-C1A02D6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6B2-17C5-4293-A33E-87EEBCA9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974-EF9B-41E6-8E28-91633A08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8A3C-6013-40F8-99C5-60E9D332E00B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2CF-5DE7-42EC-AC9C-F36FEB2FCDAA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C3FB-8D92-4D5B-9C7C-D97FCBE90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1918-AA72-4753-97E6-041E56503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Tahoma"/>
              </a:rPr>
              <a:t>Descubre tus habilidades plurilingües e interculturales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 rot="360000">
            <a:off x="3060720" y="4822200"/>
            <a:ext cx="53308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100"/>
                </a:solidFill>
                <a:latin typeface="Tahoma"/>
              </a:rPr>
              <a:t>EOI de Salama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62360" cy="301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268280"/>
            <a:ext cx="718920" cy="432000"/>
          </a:xfrm>
          <a:prstGeom prst="wedgeEllipseCallout">
            <a:avLst>
              <a:gd name="adj1" fmla="val -34328"/>
              <a:gd name="adj2" fmla="val 665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649440" cy="647640"/>
          </a:xfrm>
          <a:prstGeom prst="wedgeEllipseCallout">
            <a:avLst>
              <a:gd name="adj1" fmla="val -53666"/>
              <a:gd name="adj2" fmla="val 5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37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ffff"/>
                </a:solidFill>
                <a:latin typeface="Tahoma"/>
              </a:rPr>
              <a:t>16. </a:t>
            </a:r>
            <a:r>
              <a:rPr b="1" lang="es-ES_tradnl" sz="4000" spc="-1" strike="noStrike">
                <a:solidFill>
                  <a:srgbClr val="ff33cc"/>
                </a:solidFill>
                <a:latin typeface="Tahoma"/>
              </a:rPr>
              <a:t>ESTRATEGIAS  DE  COMUNICACIÓN DE HAN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Para comunicarse con ellos les habla en una lengua  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Cuando se da cuenta de que no entienden algo  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Otra forma de decir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 piac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(Martín a su vez da un sinónimo de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bell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tra forma de decir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ci vediamo dopo (despedirse)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: 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- También acompaña a menudo sus palabras con 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7.   ¿Cómo es desde el punto de vista lingüístico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no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ult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8- ¿Qué lenguas se hablan en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 ¿en qué lengua habla la camarer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 ¿qué le pas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preocup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enfa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 le gustan los extranje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s posible  entender lo que le pasa aunque no se conozca la lengua en la que habl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 ¿qué les d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ya es muy tarde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es muy pronto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 ¿qué estrategia usa para hacerse entende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tiliza una lengua que ellos entien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 ¿por qué a un español le cuesta tanto comprender el enfado de la camarer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las camareras no se enfadan nun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s de mala educación enfada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es normal desayunar a esa h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 La camarera les ofre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con lec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o 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 Finalmente Martín y su amigo entienden perfectamente que tienen que elegir entre té o café ¿por qué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los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son palabras muy próximas a las del españ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 Martín y su amigo elige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0. La camarera entiende porqu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 lo dicen en alem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tilizan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on palabras interna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cc"/>
                </a:solidFill>
                <a:latin typeface="Corbel"/>
              </a:rPr>
              <a:t>IIIComportarse como locutores intercultural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9640" y="1989000"/>
            <a:ext cx="748836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Los grupos serán los mismos que en las otras actividades: los amarillos serán los 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azules </a:t>
            </a:r>
            <a:r>
              <a:rPr b="0" lang="es-ES" sz="2800" spc="-1" strike="noStrike">
                <a:solidFill>
                  <a:srgbClr val="00ccff"/>
                </a:solidFill>
                <a:latin typeface="Corbel"/>
              </a:rPr>
              <a:t>los I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rojos y verdes  </a:t>
            </a:r>
            <a:r>
              <a:rPr b="0" lang="es-ES" sz="2800" spc="-1" strike="noStrike">
                <a:solidFill>
                  <a:srgbClr val="ff0000"/>
                </a:solidFill>
                <a:latin typeface="Corbel"/>
              </a:rPr>
              <a:t>observadores </a:t>
            </a:r>
            <a:r>
              <a:rPr b="0" lang="es-ES" sz="2800" spc="-1" strike="noStrike">
                <a:solidFill>
                  <a:srgbClr val="33cc33"/>
                </a:solidFill>
                <a:latin typeface="Corbel"/>
              </a:rPr>
              <a:t>internacional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. Tendrán muy claras sus instrucciones y ensayarán durante 5 minu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843280" cy="248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025800" cy="260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302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Cumbre internacional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va a producir una negociación entre 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os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réis los amarillos y los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s azules. Los rojos y verdes seréis 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observado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es de empezar: leed bien, comprended y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saya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yudados por vuestro profe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79600">
            <a:off x="2398320" y="97956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y 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Ulandes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para negoc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tenéis que acompañaros de gestos y mímica para que los otros os comprend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hay que seguir estos pa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. salu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2. explicar qué queréis y qué tené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3. dar las gra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4. desped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durante la negoci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 alguien hace algo extraño, irritante, irrespetuoso, ofensivo o incomprensible para vosotros debéis interrumpir la negoc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enéis que observar con atención cómo se comunican los otros y aprender lo que podáis de su lengua y sus costumb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uando la negociación se rompa tendréis que intentar averiguar qué ha fallado para no repeti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consigáis lo necesario habréis acabado, aunque si no habéis aprendido nada sobre las culturas de los otros no habrá servido de 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SERVADOR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ahoma"/>
              </a:rPr>
              <a:t>INTERNACION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Los roj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bservaréis a los  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33cc33"/>
                </a:solidFill>
                <a:latin typeface="Tahoma"/>
              </a:rPr>
              <a:t>los verd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a los </a:t>
            </a:r>
            <a:r>
              <a:rPr b="0" lang="es-ES" sz="28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jaos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forma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s mov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manera de relacion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réis sus reacciones y analizaréis sus costumbres, sus normas, las razones  de los conflictos, las causas de los equívocos  y cómo se resuel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cidiréis quiénes son buenos locutores interculturales  y expondréis vuestras conclusiones al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DESPUÉS DE LA NEGOCI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º VAMOS A ESCUCHAR LA VERSIÓN DE LO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ADO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º LO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LANDE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ULANDESES</a:t>
            </a:r>
            <a:r>
              <a:rPr b="0" i="1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ÉIS EXPLICAR QUÉ HABÉIS PENSADO LOS UNOS DE LOS OTROS Y CÓMO OS HABÉIS SENTIDO AL RELACIONAROS. TAMBIÉN TENDRÉIS QUE EXPLICAR POR QUÉ HABÉIS ACTUADO COMO LO HABÉIS HECH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350496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2370240" cy="333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2490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36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8ce"/>
                </a:solidFill>
                <a:latin typeface="Tahoma"/>
              </a:rPr>
              <a:t>I- APRENDER LENGUAS A PARTIR DE OTRAS LENGUAS: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PRENDER</a:t>
            </a: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/APRENDER OTRAS LENGUAS ES 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   FÁCIL SI HABLAS ESPAÑOL E INGLÉS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Habéis recibido una pegatina con un color. Dirigíos, por favor, hacia la mesa de vuestro color en la que os estará esperando vuestro profesor con una pegatina como la vues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El coordinador os saludará y hará una pequeña int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Vuestro profesor os dará las instrucciones (1º escribid vuestro nombre en la parte de abajo. 2º entre todos completar el puzzle de frases en distintas lengu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Una vez concluida esta tarea y completada y corregida la tabla, los profesores enseñaran a pronunciar las frases en las distintas lenguas. Después,  los profesores harán algunas preguntas y en gran grupo los alumnos responderán en al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Conclusión: se reflexionará sobre las estrategias de comprensión y de aprendizaje, los indicios, el proceso que han seguido en sus deduccion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22120"/>
          <a:ext cx="9144000" cy="6413760"/>
        </p:xfrm>
        <a:graphic>
          <a:graphicData uri="http://schemas.openxmlformats.org/drawingml/2006/table">
            <a:tbl>
              <a:tblPr/>
              <a:tblGrid>
                <a:gridCol w="1763640"/>
                <a:gridCol w="1584360"/>
                <a:gridCol w="1944720"/>
                <a:gridCol w="2073240"/>
                <a:gridCol w="17780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franç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Deut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ómo te  llam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e ti chiam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ment tu t’appell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’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he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ＭＳ Ｐゴシック"/>
                        </a:rPr>
                        <a:t>ß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 llamo Ma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i chiamo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m’appell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y name is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heiß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e dónde  er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i dove se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’où tu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are you fr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her komm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españ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spagn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espagn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 Span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Spanie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uántos años tien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anti anni h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 âge as-t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alt bi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eng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Ne h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ai vingt-trois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23 years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23 Jahre 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ónde v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ove ab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Où tu habi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do you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 wohn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Vivo en Pa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Abito a Pari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habite à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liv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wohn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a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lavoro f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f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do you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mach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period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gior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journal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a journ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Journali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estudi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sa stud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étud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are you study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studier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tudio fil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Faccio Lett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étudi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studying Huma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studier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ora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ore so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le heure est-i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time is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spät ist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 las ci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le cin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l est cinq he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t’s five o’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 ist fünf U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zi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hank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Pr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r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You’re wel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B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I-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UNICARSE  ES FÁCIL AUNQUE SE HABLEN LENGUAS DISTINTAS: ESTRATEGIAS PARA COMUNICARS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Se trata de comprender algunos minutos de la película « Un franco, 14 pesetas » que aborda la emigración española en Suiza en los años 60 y que presenta el multilingüismo en el contexto helvético.</a:t>
            </a:r>
            <a:r>
              <a:rPr b="0" lang="es-ES" sz="2300" spc="-1" strike="noStrike">
                <a:solidFill>
                  <a:srgbClr val="ffffff"/>
                </a:solidFill>
                <a:latin typeface="Corbel"/>
              </a:rPr>
              <a:t> Estos momentos ilustran muy  bien intercambios plurilingüe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Es una actividad de comprensión audiovisual y escrita plurilingüe. Los estudiantes deberán acceder a la comprensión partiendo de sus conocimientos de otras lenguas y utilizando estrategias de comprensión sobre las que serán capaces de reflexion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También  se pone el énfasis en la necesidad de conocer algunas particularidades de la propia cultura en relación a algunas costumbres de otras culturas para evitar malentendid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2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La llegada a Sui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¿qué lenguas reconoc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policías en la fronter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señor de la fáb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os carte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 el señor de la fábrica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 con otro huésped con el que se cruzan en las escaler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. Martín y Marcos sólo hab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ntienden Martín y su amigo lo que les dicen en la frontera (en francé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 el contexto y 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entienden el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hablan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075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4. Los españoles se asombran de muchas cosas. De esto puedes deducir qu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5. ¿por qué entiende el señor suizo de la fábrica lo que le dice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porque entiende el españ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porque algunas palabras españolas se parecen a las de su lengu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6. ¿qué dos palabras recono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 que  Martín y Marcos son  …………………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  que Martín y Marcos  son  mecánicos ……………………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7. Martín y su amigo creen haber entendido una palabra alemana   ¿cómo la traducen? ¿dónde piensan que están los trabajador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8. ¿cómo se hace entender el suiz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9. El señor suizo lleva a los españoles a un edificio y  los deja a cargo de Hanna, diciéndo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que son de …………………………  ( nacionalida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y que vienen ………………………  (ocupació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836640"/>
          <a:ext cx="7705800" cy="1843200"/>
        </p:xfrm>
        <a:graphic>
          <a:graphicData uri="http://schemas.openxmlformats.org/drawingml/2006/table">
            <a:tbl>
              <a:tblPr/>
              <a:tblGrid>
                <a:gridCol w="42498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España en 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iza en 1960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 no/sí se tiran al s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no /sí se besan en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no /sí  va arm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 no /sí hay mucha 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algunos cuartos de baño  no/sí hay ……………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os cuartos de baño………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ffff"/>
                </a:solidFill>
                <a:latin typeface="Tahoma"/>
              </a:rPr>
              <a:t>10. Vamos  a deducir el significado del cartel</a:t>
            </a:r>
            <a:r>
              <a:rPr b="0" lang="es-ES_tradnl" sz="1400" spc="-1" strike="noStrike">
                <a:solidFill>
                  <a:srgbClr val="e5ffff"/>
                </a:solidFill>
                <a:latin typeface="Tahoma"/>
              </a:rPr>
              <a:t>: podemos entender su significado a partir del inglés y teniendo en cuenta el contexto (los españoles deducen por el aspecto del lugar que es una pensión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095560"/>
            <a:ext cx="828036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57200" y="692280"/>
          <a:ext cx="8229600" cy="144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Alem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españ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Gast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1. ¿cuántas lenguas habla Hann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taliano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rancés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2. ¿ en cuántas  se  entiend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nglés e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3. ¿por qué Hanna les habla en italian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sabe que hablan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su lengua  ma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consciente de que es la lengua que conoce más próxima al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4. ¿qué palabras dice Hanna que parecen españolas y que podemos considerar” falsos amigo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…=habit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arri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piso/pl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5. ¿Y qué entienden ell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 Que a Hanna le ………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3:58Z</dcterms:created>
  <dc:creator>VEGA</dc:creator>
  <dc:description/>
  <dc:language>en-US</dc:language>
  <cp:lastModifiedBy>DEPARTAMENTO</cp:lastModifiedBy>
  <dcterms:modified xsi:type="dcterms:W3CDTF">2011-12-07T14:24:03Z</dcterms:modified>
  <cp:revision>33</cp:revision>
  <dc:subject/>
  <dc:title>Diapositiva 1</dc:title>
</cp:coreProperties>
</file>